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1D78-78DB-4716-A42C-E93D64362A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129F-5675-4008-AFC0-5885E4D37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D23A-A37F-445A-8FBE-0873C416F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6A8E-762E-43B3-A35C-0381116F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C2D-4ABE-4499-843C-64C48709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D75-11DD-4E0C-9EC2-8D763A28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099B-4C53-41D7-95C9-A8E0C71B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6845-FABC-4519-8986-03718BB2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A7A2-FB36-4F4A-85AC-733F6561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79B9-F2DC-4BC0-8340-AE9D6EE3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3835-67D6-41B6-B215-47983881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0718-212E-47FC-90AA-6C156D26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D5FB-E552-45DE-AE88-852B8EC9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59C7-73BC-4C23-8E13-066B73E6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D90-4C2F-4E83-B9ED-2FB1F6AD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6392-DBA2-4977-9A09-F0428CAF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EC3C-F2F3-4E8A-8A49-F007AB51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650C-A2AB-490F-AF96-291668A6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C45B-EBE6-4D87-9EA2-886BCFE0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5216-1AF4-4487-983A-A25A39F9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613A6-36AC-4E34-B274-6E2928BC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B07C8-466C-400F-97FC-97F1CABA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7A34E-B5E0-4214-A1FF-F3E8D725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978B2-3760-4883-901B-BA15A191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FADEF-8DD2-4827-ACBB-9B45A397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973-8485-4654-90DC-D9F725C0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AC0D5-FC36-4EE8-BFAE-4C51FC83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54876-F093-4AE4-BEAD-054E3EA7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EA1F1-D23A-4891-AA2E-7FC3AC86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E85A-23C6-4171-86D2-9D51E77E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C2D1-1EEF-49DB-99E9-40189277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DA163-07D2-497E-A712-56BAF0F9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9666D-8C0A-43D8-8C3F-A02F62A1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CD46B-F542-4F5E-ADDC-306B9B28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51B25-F438-40CA-BDBC-4D748780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08F3A-526E-4849-93E7-A8898369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A8B-2186-4E6F-95F1-D9B40B7A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80F4B-6321-4C6F-B006-7EDD73CF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8F5D7-D820-4AC4-A6C3-A93288D4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39437-096C-41B1-A3D6-2EC2B2C1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5DB2B-F489-4843-B6D5-26ACCB38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663FE-2299-4AAF-AD83-FF98A2F6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EF40A-767F-4283-8FA8-977F2A7C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85273-2963-4C43-BC11-83E8D48C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D3DE5-BF5A-47A6-AFC3-62EF1674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91F8B-359C-4981-8B37-2E63B2C8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90F-456C-454C-98D5-44788FBF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424-CB8F-4FD1-A6C8-826128AC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8B67-BD66-4E1A-84D4-096ABEDE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0C8-74D2-4C65-AC7F-850BD119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0A2-F325-4F5B-960C-9FD85909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1BA5-116D-4F1D-81FD-06F7EC3618D3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655C-7006-48A3-846B-D77F3455DB3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6141-DF12-466F-A129-45188FA01B15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9C04-376E-412E-ABA9-0889B483398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7C4C-EDD4-49CF-9753-4FE6712B02A2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141B-98BB-45E3-B828-DD5B4F4282B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5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2672-2EBB-4B37-813A-65897393C48D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DB45-B1EB-4A65-A85D-01B884F1508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minterns.wikispaces.com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lcommunity.wordpress.com/teaching-and-learning-resources-2/" TargetMode="External"/><Relationship Id="rId3" Type="http://schemas.openxmlformats.org/officeDocument/2006/relationships/hyperlink" Target="http://tlcommunity.wordpress.com/teaching-and-learning-resources-2/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minterns.wikispaces.com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2"/>
          <a:stretch/>
        </p:blipFill>
        <p:spPr>
          <a:xfrm>
            <a:off x="281160" y="781200"/>
            <a:ext cx="8435880" cy="1577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85520" y="40719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r. Jay Wils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ugust, 201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rner focused 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ill watch the students not yo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a perform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ill share with you what I have obser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an evaluation she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 these observations with the PG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w achiev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w need for improv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eep your data sheets upd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sson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ily plan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G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important source of evidence of what you are doing. Crucial for mid and final evalu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 not have to meet them 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finished once you have them 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checkbox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antly revising, doing multiple entr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you will do regularly others, only o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ows your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all evidence comes from the classroom or school set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 journal dated with feedback. May be 50 pages when finish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ly one PGG goal per les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28880" y="2282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447560"/>
            <a:ext cx="8534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and Impro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really happened in your internshi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gle.do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vite your cooperating teacher(s) so we can ALL read and add to your PGG goals evidence and reflections periodic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ease copy a selection of your PGG evidence and reflections to the PGG (by August 30) so that your cooperating teacher can see examples when they view it for the first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view new PG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up 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minterns.wikispaces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eld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askatoon publ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F Stewart Resource Cent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rst nations information and ideas from Cort and Ire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will make you successfu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pa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fessional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sona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pa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ey to classroom 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oughtful and creative daily lesson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pare everything you will need to te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r co-op may not need to or is not interested in detailed prepa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have not earned that r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n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you handle your 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you engage your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sues of resp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rned and giv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ing this skill will take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Welcome / Introduction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Internship Overview: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Timeline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Expectations, roles and responsibilities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Supervision/ Documentation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GGs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Resources - Cohort wiki: </a:t>
            </a:r>
            <a:r>
              <a:rPr b="0" lang="en-US" sz="1500" spc="-1" strike="noStrike">
                <a:solidFill>
                  <a:srgbClr val="03495c"/>
                </a:solidFill>
                <a:latin typeface="Cambria"/>
              </a:rPr>
              <a:t>http://wminterns.wikispaces.com/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Lunch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MPP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reparation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Management (Responsible Learners!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rofessionalism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ersonalization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Unit and Lesson Planning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The “Big” 4: Adaptation / Differentiation / Assessment / Inquiry-based education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Wrap up / Homework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Emma Lake Kenderdine Visit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fessionalis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sues of privacy and confidentiality are import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 than small towns but everyone still knows everyone el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gle yourself because the parents wil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18040" indent="-199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ypbertips hando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ngu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uly become a member of the staff.  Ask questions and get to know what is happening in the scho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are not a student any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ACHER PROFESSIONAL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’s &amp; Don’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F Code of Professional Competencies &amp; Ethic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ang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pecially for guys. Power relation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you s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re you loo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you approach peop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erything you do is being interpreted by a very impressionable gro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ss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to deal with problem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now the procedure for multiple abs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acting par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ver be alone with the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ing with EA or 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ok for potential dang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rsonal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t to know your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not teach them or plan without knowing th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the first ten days or so to get an idea about who you are working with then plan your first un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sson 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Lesson Plan templat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Blo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t 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Unit Plan templat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Blo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-generated unit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75" name="Group 14"/>
          <p:cNvGrpSpPr/>
          <p:nvPr/>
        </p:nvGrpSpPr>
        <p:grpSpPr>
          <a:xfrm>
            <a:off x="1643040" y="4071960"/>
            <a:ext cx="4071960" cy="2571840"/>
            <a:chOff x="1643040" y="4071960"/>
            <a:chExt cx="4071960" cy="2571840"/>
          </a:xfrm>
        </p:grpSpPr>
        <p:sp>
          <p:nvSpPr>
            <p:cNvPr id="276" name="Oval 6"/>
            <p:cNvSpPr/>
            <p:nvPr/>
          </p:nvSpPr>
          <p:spPr>
            <a:xfrm>
              <a:off x="1643040" y="4071960"/>
              <a:ext cx="4071960" cy="2571840"/>
            </a:xfrm>
            <a:prstGeom prst="ellipse">
              <a:avLst/>
            </a:prstGeom>
            <a:solidFill>
              <a:srgbClr val="c9fafc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11"/>
            <p:cNvSpPr/>
            <p:nvPr/>
          </p:nvSpPr>
          <p:spPr>
            <a:xfrm>
              <a:off x="4572000" y="5143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Tea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5"/>
          <p:cNvGrpSpPr/>
          <p:nvPr/>
        </p:nvGrpSpPr>
        <p:grpSpPr>
          <a:xfrm>
            <a:off x="1643040" y="4357800"/>
            <a:ext cx="2928960" cy="1928880"/>
            <a:chOff x="1643040" y="4357800"/>
            <a:chExt cx="2928960" cy="1928880"/>
          </a:xfrm>
        </p:grpSpPr>
        <p:sp>
          <p:nvSpPr>
            <p:cNvPr id="279" name="Oval 16"/>
            <p:cNvSpPr/>
            <p:nvPr/>
          </p:nvSpPr>
          <p:spPr>
            <a:xfrm>
              <a:off x="1643040" y="4357800"/>
              <a:ext cx="2928960" cy="1928880"/>
            </a:xfrm>
            <a:prstGeom prst="ellipse">
              <a:avLst/>
            </a:prstGeom>
            <a:solidFill>
              <a:srgbClr val="b5edfd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7"/>
            <p:cNvSpPr/>
            <p:nvPr/>
          </p:nvSpPr>
          <p:spPr>
            <a:xfrm>
              <a:off x="342900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18"/>
          <p:cNvGrpSpPr/>
          <p:nvPr/>
        </p:nvGrpSpPr>
        <p:grpSpPr>
          <a:xfrm>
            <a:off x="1643040" y="4643280"/>
            <a:ext cx="1785960" cy="1285920"/>
            <a:chOff x="1643040" y="4643280"/>
            <a:chExt cx="1785960" cy="1285920"/>
          </a:xfrm>
        </p:grpSpPr>
        <p:sp>
          <p:nvSpPr>
            <p:cNvPr id="282" name="Oval 19"/>
            <p:cNvSpPr/>
            <p:nvPr/>
          </p:nvSpPr>
          <p:spPr>
            <a:xfrm>
              <a:off x="1643040" y="4643280"/>
              <a:ext cx="1785960" cy="128592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20"/>
            <p:cNvSpPr/>
            <p:nvPr/>
          </p:nvSpPr>
          <p:spPr>
            <a:xfrm>
              <a:off x="185724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Ince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“Big 4” of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ed to content, instruction, environ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ed to individual stud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essment </a:t>
            </a:r>
            <a:r>
              <a:rPr b="0" i="1" lang="en-US" sz="2400" spc="-1" strike="noStrike">
                <a:solidFill>
                  <a:srgbClr val="00b050"/>
                </a:solidFill>
                <a:latin typeface="Constantia"/>
              </a:rPr>
              <a:t>of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rning, assessment </a:t>
            </a:r>
            <a:r>
              <a:rPr b="0" i="1" lang="en-US" sz="2400" spc="-1" strike="noStrike">
                <a:solidFill>
                  <a:srgbClr val="00b050"/>
                </a:solidFill>
                <a:latin typeface="Constantia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ear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quiry-based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aching skills checkl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makes a teacher good 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serve the teaching going on around yo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view checklist on 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 about 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will all have weakness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you respond to them is what is import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p to you to be the best for every student you come into contact wi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tom line is how is student learning is impacted by what you 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have four months to impress your coop and your princip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 and 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Questions, issues or conc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mework: “Big Ideas” in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1357200" y="3000240"/>
            <a:ext cx="507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hnography of school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g Ideas” in 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aptiv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fferentiate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tent areas and teach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sources and resource-bas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rst Nations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ultural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cher and student sup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municating and reporting to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ord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vision or school major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71440" y="22824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rst In-servi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08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lanning of your first unit (3 – 5 lesson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apto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f poss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GG Goal Tabl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 of evidence/indica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terns should be prepared to teach their cooperating teacher about the PGG goals and sub-goals and how to use the goal ta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rnship Overvie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imel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ectations, roles and responsibi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sitations / Docum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de of Competencies / Ethics / CyberT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GG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hort wiki 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minterns.wikispaces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enderdine Vis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088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ave Saskatoon on Monda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 at camp around 10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ress for the weather but we have a classro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food is provided, all bedding, towels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ientation then lunch at no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eting after lun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Quiet time before supper 6: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vening gather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eakfast at 9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noe trip to isl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turn for lunch at no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et after lun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ave for Saskatoon in afterno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1" name="Right Arrow 3"/>
          <p:cNvGrpSpPr/>
          <p:nvPr/>
        </p:nvGrpSpPr>
        <p:grpSpPr>
          <a:xfrm>
            <a:off x="3962520" y="4681440"/>
            <a:ext cx="1139760" cy="615960"/>
            <a:chOff x="3962520" y="4681440"/>
            <a:chExt cx="1139760" cy="615960"/>
          </a:xfrm>
        </p:grpSpPr>
        <p:pic>
          <p:nvPicPr>
            <p:cNvPr id="212" name="Right Arrow 3" descr=""/>
            <p:cNvPicPr/>
            <p:nvPr/>
          </p:nvPicPr>
          <p:blipFill>
            <a:blip r:embed="rId2"/>
            <a:stretch/>
          </p:blipFill>
          <p:spPr>
            <a:xfrm>
              <a:off x="3962520" y="4681440"/>
              <a:ext cx="11397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rot="10800000">
              <a:off x="4152960" y="48384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304920" y="2209680"/>
            <a:ext cx="2133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– August 2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 know your school and the procedures for inter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733920" y="2133720"/>
            <a:ext cx="236196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1 Sept 7 or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first unit with Co-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PG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791320" y="2743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½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term evaluation due October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7010280" y="2133720"/>
            <a:ext cx="2286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2 Oct 8 or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midterm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-Tuning Unit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ight Arrow 10"/>
          <p:cNvGrpSpPr/>
          <p:nvPr/>
        </p:nvGrpSpPr>
        <p:grpSpPr>
          <a:xfrm>
            <a:off x="5950080" y="2090880"/>
            <a:ext cx="1133280" cy="615960"/>
            <a:chOff x="5950080" y="2090880"/>
            <a:chExt cx="1133280" cy="615960"/>
          </a:xfrm>
        </p:grpSpPr>
        <p:pic>
          <p:nvPicPr>
            <p:cNvPr id="219" name="Right Arrow 10" descr=""/>
            <p:cNvPicPr/>
            <p:nvPr/>
          </p:nvPicPr>
          <p:blipFill>
            <a:blip r:embed="rId3"/>
            <a:stretch/>
          </p:blipFill>
          <p:spPr>
            <a:xfrm>
              <a:off x="5950080" y="2090880"/>
              <a:ext cx="11332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019920" y="224784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Right Arrow 11"/>
          <p:cNvGrpSpPr/>
          <p:nvPr/>
        </p:nvGrpSpPr>
        <p:grpSpPr>
          <a:xfrm>
            <a:off x="2597040" y="2090880"/>
            <a:ext cx="1133640" cy="615960"/>
            <a:chOff x="2597040" y="2090880"/>
            <a:chExt cx="1133640" cy="615960"/>
          </a:xfrm>
        </p:grpSpPr>
        <p:pic>
          <p:nvPicPr>
            <p:cNvPr id="222" name="Right Arrow 11" descr=""/>
            <p:cNvPicPr/>
            <p:nvPr/>
          </p:nvPicPr>
          <p:blipFill>
            <a:blip r:embed="rId4"/>
            <a:stretch/>
          </p:blipFill>
          <p:spPr>
            <a:xfrm>
              <a:off x="2597040" y="20908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666880" y="2247840"/>
              <a:ext cx="87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Right Arrow 12"/>
          <p:cNvGrpSpPr/>
          <p:nvPr/>
        </p:nvGrpSpPr>
        <p:grpSpPr>
          <a:xfrm>
            <a:off x="7394400" y="3998880"/>
            <a:ext cx="1133640" cy="615960"/>
            <a:chOff x="7394400" y="3998880"/>
            <a:chExt cx="1133640" cy="615960"/>
          </a:xfrm>
        </p:grpSpPr>
        <p:pic>
          <p:nvPicPr>
            <p:cNvPr id="225" name="Right Arrow 12" descr=""/>
            <p:cNvPicPr/>
            <p:nvPr/>
          </p:nvPicPr>
          <p:blipFill>
            <a:blip r:embed="rId5"/>
            <a:stretch/>
          </p:blipFill>
          <p:spPr>
            <a:xfrm>
              <a:off x="7394400" y="39988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10800000">
              <a:off x="7581960" y="41526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3"/>
          <p:cNvSpPr/>
          <p:nvPr/>
        </p:nvSpPr>
        <p:spPr>
          <a:xfrm>
            <a:off x="2362320" y="26668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5715000" y="449568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1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your Full time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6880" y="464832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evaluation to me by November 3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28600" y="53341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mber 17 School is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Right Arrow 17"/>
          <p:cNvGrpSpPr/>
          <p:nvPr/>
        </p:nvGrpSpPr>
        <p:grpSpPr>
          <a:xfrm>
            <a:off x="1450800" y="4913280"/>
            <a:ext cx="1133640" cy="615960"/>
            <a:chOff x="1450800" y="4913280"/>
            <a:chExt cx="1133640" cy="615960"/>
          </a:xfrm>
        </p:grpSpPr>
        <p:pic>
          <p:nvPicPr>
            <p:cNvPr id="232" name="Right Arrow 17" descr=""/>
            <p:cNvPicPr/>
            <p:nvPr/>
          </p:nvPicPr>
          <p:blipFill>
            <a:blip r:embed="rId6"/>
            <a:stretch/>
          </p:blipFill>
          <p:spPr>
            <a:xfrm>
              <a:off x="1450800" y="49132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10800000">
              <a:off x="1638360" y="50670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8"/>
          <p:cNvSpPr/>
          <p:nvPr/>
        </p:nvSpPr>
        <p:spPr>
          <a:xfrm>
            <a:off x="1447920" y="5638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ing down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14320" y="2282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-SERVICE DATES &amp; LOC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rvice # 1 for teacher candidates and cooperating teachers:</a:t>
            </a: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 September 10 or 17, 9:00am -  3:00 p.m. – STF Building, 2317 Arlington Aven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rvice # 2 for teacher candidates only:</a:t>
            </a:r>
            <a:r>
              <a:rPr b="1" lang="en-US" sz="2600" spc="-1" strike="noStrike">
                <a:solidFill>
                  <a:srgbClr val="083763"/>
                </a:solidFill>
                <a:latin typeface="Constantia"/>
              </a:rPr>
              <a:t> October 8/13, 9:00 a.m. – 3:00 p.m. – STF Building, 2317 Arlington Aven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rvice # 3 (half day):  the TC and CT decide when to take the half day to work on the midterm assessment.  This half day can be spent in the home sch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tendance – arrive early and leave l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 absences to the college supervis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usion of Aboriginal Content, Knowledge and Ways of Knowing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Lesson Plans (2 formal plans each day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 Unit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rst 3-5 lessons for part-time te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10 – 15 lessons for full time te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 documentation in the PGG Goal T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 communication (including the PGG Goal Tables) with cooperating teacher and college supervisor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oles and responsibilit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2133360"/>
            <a:ext cx="6858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-planning and co-te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paration of two units --Co-generated Unit and Independently written Un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ily lesson plans and other unit pl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ily pre- and post- conferences and feedb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olvement in School and Community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role is to support both you and your co-o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ess the relationship and determine if you need my hel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rner focused superv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aching, consulting, collaborating, calibra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 ro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serve you in your 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you with feedba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lp you document and reflect on your exper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you with support when you need 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visits in October and Nove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 and  post conferenc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ormal visi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3:34:48Z</dcterms:created>
  <dc:creator>user</dc:creator>
  <dc:description/>
  <dc:language>en-US</dc:language>
  <cp:lastModifiedBy>Jay Wilson</cp:lastModifiedBy>
  <dcterms:modified xsi:type="dcterms:W3CDTF">2010-08-20T04:54:14Z</dcterms:modified>
  <cp:revision>45</cp:revision>
  <dc:subject/>
  <dc:title>Internship Orientation Seminar</dc:title>
</cp:coreProperties>
</file>